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907-2C0E-4EA8-8B70-812CE7D6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77F-FA18-4C48-84E4-17BC792B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637-A434-4F1B-8A6B-1FC3A9A1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A34-6F21-48AE-B8F6-A76F519B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955-8DEF-44D0-B8F1-9EA4F6E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2CF-251A-44BD-8BE7-ACA450C4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8EB-C359-4D33-BB2D-E24E960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96E-CF6E-40DC-B2F9-6358490A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2BE-B341-4168-8E2D-5DABD7D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02E-14C1-4615-AFA0-E010ADE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A20-D2BA-41D3-B720-ED60EBC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85E-E44E-4BF0-962E-6D4D254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33AD-3B91-4CAF-B5BC-25C96ADC4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40384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quelle couleurs sont les croissants de lu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480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en de triangles est-ce qu’il y 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895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en de losange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3880" y="1676520"/>
            <a:ext cx="594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2720" y="3276720"/>
            <a:ext cx="81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quelle couleurs sont les zigza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2286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bien d’ovale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9051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bien d’étoiles est-ce qu’il y 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590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en de car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9810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 quelle couleur sont les boucle d’oreilles de la re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quelle couleur est le maillot de bain de l’o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bien de rectangles est-ce qu’il y 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8:08Z</dcterms:created>
  <dc:creator>CVJH-LAB</dc:creator>
  <dc:description/>
  <dc:language>en-US</dc:language>
  <cp:lastModifiedBy>nield411</cp:lastModifiedBy>
  <dcterms:modified xsi:type="dcterms:W3CDTF">2008-02-26T04:40:11Z</dcterms:modified>
  <cp:revision>9</cp:revision>
  <dc:subject/>
  <dc:title>Slide 1</dc:title>
</cp:coreProperties>
</file>